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explode.wav" ContentType="audio/x-wav"/>
  <Override PartName="/ppt/media/camera.wav" ContentType="audio/x-wav"/>
  <Override PartName="/ppt/media/image4.png" ContentType="image/png"/>
  <Override PartName="/ppt/media/image6.jpeg" ContentType="image/jpeg"/>
  <Override PartName="/ppt/media/applause.wav" ContentType="audio/x-wav"/>
  <Override PartName="/ppt/media/chimes.wav" ContentType="audio/x-wav"/>
  <Override PartName="/ppt/media/image16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C47-8D29-4566-9326-71ED0013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215-81D2-4000-89D2-351080F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51D-13CE-46B0-81CF-25366465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89C-BEF4-406B-9140-71149623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44B-CAF4-4243-A85E-AE7618E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5E3-89A4-40A7-B9AC-7D1BF08F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128-D2B3-407A-91FF-B5A66FB7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94B-1DE5-4AA4-895D-E5426CF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2F8-D3ED-42F9-AE24-36FEE928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3EE-BCCB-41A4-BBFC-6DB17F78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CC8-E664-4D0E-8F35-78346E8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62D-EEDC-43B2-A55F-6D9F243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98C5-FD19-4BE3-81A3-7C439497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19.gif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640"/>
            <a:ext cx="4319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¿Cual es el único alimento que no se dañ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907920"/>
            <a:ext cx="30243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9900"/>
                </a:solidFill>
                <a:latin typeface="Verdana"/>
              </a:rPr>
              <a:t>“</a:t>
            </a:r>
            <a:r>
              <a:rPr b="1" lang="es-MX" sz="4400" spc="-1" strike="noStrike" u="sng">
                <a:solidFill>
                  <a:srgbClr val="669900"/>
                </a:solidFill>
                <a:uFillTx/>
                <a:latin typeface="Verdana"/>
              </a:rPr>
              <a:t>La Miel de Abejas</a:t>
            </a:r>
            <a:r>
              <a:rPr b="1" lang="es-MX" sz="4400" spc="-1" strike="noStrike">
                <a:solidFill>
                  <a:srgbClr val="669900"/>
                </a:solidFill>
                <a:latin typeface="Verdana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005360"/>
            <a:ext cx="1959120" cy="14698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curar completamente sinusitis, tos crónica y resfríos comunes 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everos, mezclar una cucharada de miel tibia con 1/4 cucharada de canela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lvo y tomar con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427640" y="1197000"/>
            <a:ext cx="417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RESFRIOS</a:t>
            </a:r>
            <a:r>
              <a:rPr b="1" lang="en-US" sz="48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6000" y="2421000"/>
            <a:ext cx="1143000" cy="173664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302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ezcla de miel con canela también alivia el gas en el estómago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tifica el Sistema de Inmunización, y alivia la indi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427640" y="981000"/>
            <a:ext cx="417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DIGESTIÓN</a:t>
            </a:r>
            <a:r>
              <a:rPr b="1" lang="en-US" sz="44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049480" cy="2004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302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ién evita los estragos de la vejez cuando se toma regularmente. .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e 4 cucharadas de miel, una cucharada de canela y tres tazas 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gua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ierva para hacer un té con estos ingredientes y beba 1/4 de taza 3 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4 veces al día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ntiene la piel fresca y suave y arresta los síntomas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vejez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ién beber este té alarga la vida y hasta una persona de 100 años podrá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uncionar como alguien mucho más j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27640" y="1052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VEJEZ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27800" y="2444760"/>
            <a:ext cx="1780920" cy="1619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09744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iario, media hora antes de acostarse y media hora antes de desayuna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ba miel con canela hervida en una taza de agu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bebe diario reduce el peso hasta de las personas muy obe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427640" y="764640"/>
            <a:ext cx="4176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ÉRDIDA DE PES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500200" cy="18810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302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ome cada cuatro horas una cucharada de miel mezclada con media de Vinag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e Sidr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427640" y="76464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LOR DE GARGANT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1989000" cy="14698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5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25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: asegurarse que es miel de abeja pura y no productos comercia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asados en sirope de maíz, y otras marranadas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así decía la not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994120" cy="207324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33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on excelentes todos estos consejos acerca de la bendita Miel de Abeja y la bendita Canela de Ceilán.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mpezaré con las recomendaciones que favorezcan a mi salud física; por eso se las recomiendo para que a su vez, les solicito hacer lo mismo, si así lo consideran.</a:t>
            </a:r>
            <a:br>
              <a:rPr sz="1800"/>
            </a:br>
            <a:br>
              <a:rPr sz="1800"/>
            </a:br>
            <a:r>
              <a:rPr b="1" lang="es-MX" sz="1800" spc="-1" strike="noStrike">
                <a:solidFill>
                  <a:srgbClr val="400068"/>
                </a:solidFill>
                <a:latin typeface="Verdana"/>
              </a:rPr>
              <a:t>Que su día sea tan bello </a:t>
            </a:r>
            <a:r>
              <a:rPr b="1" lang="es-MX" sz="1800" spc="-1" strike="noStrike">
                <a:solidFill>
                  <a:srgbClr val="669900"/>
                </a:solidFill>
                <a:latin typeface="Verdana"/>
              </a:rPr>
              <a:t>como todo lo que nos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1800" spc="-1" strike="noStrike">
                <a:solidFill>
                  <a:srgbClr val="ff5050"/>
                </a:solidFill>
                <a:latin typeface="Verdana"/>
              </a:rPr>
              <a:t>proporciona La Madre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1800" spc="-1" strike="noStrike">
                <a:solidFill>
                  <a:srgbClr val="ff6600"/>
                </a:solidFill>
                <a:latin typeface="Verdana"/>
              </a:rPr>
              <a:t>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1349280" cy="18810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04000" y="2492280"/>
            <a:ext cx="1328760" cy="15130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940360" y="5805360"/>
            <a:ext cx="503280" cy="503280"/>
          </a:xfrm>
          <a:prstGeom prst="ellipse">
            <a:avLst/>
          </a:prstGeom>
          <a:solidFill>
            <a:srgbClr val="5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Monotype Corsiva"/>
              </a:rPr>
              <a:t>M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732720" y="1197000"/>
            <a:ext cx="409320" cy="41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740720" y="1916280"/>
            <a:ext cx="4474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042920" y="1844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20275800">
            <a:off x="3703680" y="4267080"/>
            <a:ext cx="79200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148360" y="4076640"/>
            <a:ext cx="4093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4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La mezcla de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Miel y Canela</a:t>
            </a: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cura la mayoría de las enfermedades...</a:t>
            </a: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La miel se produce en casi todos los países del mundo. 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A pesar de ser dulce, la Ciencia ha demostrado que,</a:t>
            </a: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omada en dosis normales como medicina, la miel no hace daño a los diabéticos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La revista "Weekly World New" de Canadá, en su edición del 17 de Enero de 1995, publica una </a:t>
            </a:r>
            <a:r>
              <a:rPr b="1" i="1" lang="es-ES" sz="1600" spc="-1" strike="noStrike" u="sng">
                <a:solidFill>
                  <a:srgbClr val="800080"/>
                </a:solidFill>
                <a:uFillTx/>
                <a:latin typeface="Verdana"/>
                <a:ea typeface="Times New Roman"/>
              </a:rPr>
              <a:t>lista de las enfermedades que cura la miel mezclada con canela</a:t>
            </a: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1584360" cy="147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63640" y="2421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La M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8000" y="4076640"/>
            <a:ext cx="1390680" cy="15843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63640" y="3500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La 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7640" y="836280"/>
            <a:ext cx="4030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NFERMEDADES DEL CORAZÓN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1484280"/>
            <a:ext cx="316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te pan y cómalo regularmente en el desayuno en lugar de mermelada o mantequilla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duce el colesterol en las arterias y previene ataques al coraz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ién previene nuevos ataques en personas que ya tuvieron un primero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uso regular de este producto mitiga la pérdida del aliento y fortalece los latidos del coraz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stados Unidos y Canadá, donde se utiliza esta pasta continuamente en Casas de Retiro, se ha descubierto que miel con canela revitaliza las arterias y venas de los pacientes ancianos y las limpia.</a:t>
            </a:r>
            <a:br>
              <a:rPr sz="5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1143000" cy="15303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116000" y="9079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Haga una pasta de miel con cane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7640" y="836280"/>
            <a:ext cx="417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PICADAS DE INSECTOS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3168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e una cucharadita de miel, dos cucharaditas de agua tibia y u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ucharadita de canela en pol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 una pasta con los ingredientes 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rótela suavemente sobre la pic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dolor y la picazón desaparecen 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o o dos minutos.</a:t>
            </a:r>
            <a:br>
              <a:rPr sz="2000"/>
            </a:br>
            <a:br>
              <a:rPr sz="9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1714680" cy="1485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ar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taza de agua caliente con dos cucharadas de miel y un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ucharadita de canela en polvo. Beber una por la mañana y una por la noch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toma con regularidad, hasta la artritis crónica se puede curar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n un estudio hecho en la Universidad de Copenhague los doctores dieron a sus pacientes diario, antes del desayuno, una cucharada de miel y 1/2 de canela en polvo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n una semana, de 200 pacientes siguiendo el tratamiento, 7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ejaron de tener dolor totalmen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mes más tarde casi todos los pacientes estaban libres de dolor, aú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quellos que casi no podían caminar y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42764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ARTRITIS</a:t>
            </a:r>
            <a:r>
              <a:rPr b="0" lang="en-US" sz="40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1676520" cy="1104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331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que sufren de Calvicie o están perdiendo el cabello, pueden aplicar Una pasta de aceite de oliva lo más caliente que se resista, una cucharad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iel y una cucharadita de canela en polvo al cuero cabelludo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jarl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15 minutos antes de ducharse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probó efectivo aún con los que dejaron la pasta en su cabeza solamente 5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427640" y="980640"/>
            <a:ext cx="417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ÉRDIDA DEL CABELLO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1440000" cy="11970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5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35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vaso de agua tibia mezclada con dos cucharadas de canela en polvo y una cucharada de miel, mata a los gérmenes que producen infección en los riñon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r mañana y tarde hasta que pase la inf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427640" y="620280"/>
            <a:ext cx="4241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INFECCIÓN EN LOS RIÑONES</a:t>
            </a:r>
            <a:r>
              <a:rPr b="1" lang="en-US" sz="36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016000" cy="1485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acer una pasta con 1 cucharadita de canela y cinco cucharaditas de miel 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plicar al diente que duel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to se debe repetir por lo menos 3 veces 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427640" y="981000"/>
            <a:ext cx="4176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DOLOR DE DIENTES</a:t>
            </a:r>
            <a:r>
              <a:rPr b="1" lang="en-US" sz="48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18080" y="2925720"/>
            <a:ext cx="1790640" cy="12542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2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s cucharadas de miel con tres cucharaditas de canela mezclados con 16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nzas de agua y tomadas 3 veces al día reduce el colesterol un 10% en DO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oras... 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Tomado diariamente elimina el colesterol por completo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427280" y="1268280"/>
            <a:ext cx="432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LESTERO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2133720" cy="17064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6:11:17Z</dcterms:created>
  <dc:creator>Preferred Customer</dc:creator>
  <dc:description/>
  <dc:language>en-US</dc:language>
  <cp:lastModifiedBy>Preferred Customer</cp:lastModifiedBy>
  <dcterms:modified xsi:type="dcterms:W3CDTF">2007-08-15T00:00:16Z</dcterms:modified>
  <cp:revision>13</cp:revision>
  <dc:subject/>
  <dc:title>Diapositiva 1</dc:title>
</cp:coreProperties>
</file>